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185-AE9C-46F3-B7AA-8A3CAD88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D36-426F-452F-B4ED-2204CA03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6A7-32ED-46FE-8D28-04DDF68C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D44-81A0-4410-90B4-9151C17E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C3D1-02EF-4794-BAEA-6CAB66D3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679-17F3-41CF-BC7C-FEC2E2F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21D-7DE2-4233-A5B3-645991E5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A825-91EA-4051-BD90-219976A4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9249-56A0-4161-9072-A2B11EE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30CC-3AFC-4ECA-8DC4-FFC4CD1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616-5C73-4A2E-94B8-BC42414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5C7-4487-4A28-89CE-6C5CFC2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6F6D-6905-427E-B721-2DE7C6B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810-A2BC-413F-90C6-950C820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303-927C-48EF-9281-02F22AB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FE0-2CA6-414E-A82E-A3C578A3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4460-60F6-41D0-A16C-ACE217E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CD7B-1F89-4B58-A032-80DC4343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AE39-6CA7-436E-8FF5-7CF71D6B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D5A0-249F-4D5E-A75D-04EAE10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C495-B8CE-4844-AB9D-D691A93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E760-D6F4-4F29-AE06-CE453D1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E1C-9ADE-49BC-AA4F-FC7C6A04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D267-8A81-478A-8E68-99E8BFA5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2A34-9EFE-4F11-9CCC-FA4FC40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1D53-D753-421B-9C16-C6797AA2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0CD1-E18E-406B-9BD9-5C2FC5F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A6E8-B7AD-4106-8BDE-B48CBFA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8805-FDE4-4149-B171-ACE2FDAA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9AC3-030A-4ED2-A802-987E0FB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B737-8E37-45C3-8344-71A78765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4458-94BF-492E-A292-DCEF726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BCBB-598E-4BF3-A93E-BD46D0E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EEA-E97F-43BC-8AEC-C246895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E67B-8B75-4147-9027-48DD42B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4FE7-A178-4D8D-BAB7-7ABFC10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04D9-D9C8-4A4C-910C-66A44CBB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C90D-33E1-49AF-A0D3-ACB1FBD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B868-697F-4319-A216-A4D8BE3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830E-F31C-4F7F-A390-2B6F6EE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2C8F-041D-401F-8602-880BCCB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B882-4788-472A-A3F7-0D51F3F1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BEF0-F45D-47DE-B968-BE80A2DD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07DD-69AE-4292-9657-C4BDA094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C2D-4F36-43A2-80DD-9B6ED7D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8254-373D-41A9-AF27-0BA32CB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37E2-9BC1-46D1-BCBA-F8E8CB6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28A4-C997-4096-8341-BEC16B9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E6B8-E514-4313-AA90-8271646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D638-52D6-4B0C-95DB-BEBD7814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040C-CB0A-452F-9902-A6E5F6A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F48C-1C33-427C-AAA7-3B6991B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CD2E-33F1-4BC6-93E6-E6B348E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9C040-1466-48CD-ACA4-D5A24C8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EDBC-106C-4952-805F-9A32DFC7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E36-6849-4155-A1F7-C1A78A59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7117-5846-4461-8BAF-A39758A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58C6-1D15-4913-B0F7-EB443B83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3424-E44A-4196-8505-4B31EAA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68F9-34AD-4A1C-B755-2745EBE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1FE8B-C2B1-43AC-AEAE-D32D826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3B822-81DC-448D-85E8-35F28914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6478-27CB-49A6-B211-FB6FA83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3786-9E29-45DA-A4C9-C3BB652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1C0E-073D-46C8-ADE7-73F9913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E93A-4404-4215-95D8-F66D104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75B-8E13-4B2B-BECF-187ABF1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6A40-CC4C-4208-984D-9E5536C3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E61E-4B27-40FB-AC69-C6E52858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2B8F-CC97-4104-ABAA-87B5B7F8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D34A-0680-4E07-8E7D-E65DBD68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CED4-DFF3-4DA8-BC2B-594C477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E0CA-A3F8-4839-9091-0F62462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ECBF-532D-4B58-BF05-6A861A07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92BB-D194-426B-9DC6-E68BF6A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55FD-BC7B-476F-A272-67F5CEDF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8D281-956B-49AB-934A-74D0D92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C35-A1FD-4772-9AD2-7D64AAB9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25B8-E016-41A5-8E57-E670253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0A0E-8CDD-426A-B1B2-AFADA8F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20B0-F43D-475F-A095-7201849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9EA8-4831-405C-BED1-C863DC55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36B8-B03B-4F53-92A5-46FAF1D9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01BF-9669-483E-9C17-FE3EF68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7E56-5233-4ED8-BF7E-D2419D7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4488-B394-4B73-84DA-55B915E4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596D-FEB1-4CB3-B3DC-271C85C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D05E-A0DC-475C-80B0-21184C8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B70-078B-4D81-8BCA-74A84B3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645C-DCC0-4465-8559-B3C3D59A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93C7-18EB-4455-9096-F5A2CE2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E8C5A-76F4-488E-91A8-CFA9A72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1EE62-C388-4F8E-BF90-8B0BCE8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16BB-578C-4CB7-BFE4-0519DEE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B53E2-536F-493B-B8F6-F7BCD987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231A-50D3-4394-8C35-802646EB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2A8C-8C50-4C98-9252-3A0D7528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AA1-1750-43E2-AB02-5E3B5E3C67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96C-001A-4D65-83BB-B95D36E8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575-AED5-49DB-B3C5-3B9141D31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8A42-C7F3-4B35-8AE1-2113DA6A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BBF8-96E9-4EF0-95F1-D0F30D07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C092-4533-442C-A0C2-A405E88437B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834-9524-4B03-84A7-FF5468D1B3B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476280" y="2170080"/>
            <a:ext cx="8313840" cy="18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cut themselves to cope with their proble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tting makes people briefly feel like they can have a handle on life agai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tters often use razors, utility knives, scissors, needles, or anything that can slice their ar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Content Placeholder 4" descr="cutter.jpg"/>
          <p:cNvPicPr/>
          <p:nvPr/>
        </p:nvPicPr>
        <p:blipFill>
          <a:blip r:embed="rId2"/>
          <a:stretch/>
        </p:blipFill>
        <p:spPr>
          <a:xfrm>
            <a:off x="4705200" y="2819520"/>
            <a:ext cx="36388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9240" y="2118240"/>
            <a:ext cx="914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Picture 2" descr="http://t0.gstatic.com/images?q=tbn:ANd9GcT_UJc6zP-cACW14tnt65SIkMgkIutJ2-L8ayV_fwaLTX1lY3YTELSgT3xi"/>
          <p:cNvPicPr/>
          <p:nvPr/>
        </p:nvPicPr>
        <p:blipFill>
          <a:blip r:embed="rId1"/>
          <a:srcRect l="0" t="45" r="0" b="45"/>
          <a:stretch/>
        </p:blipFill>
        <p:spPr>
          <a:xfrm>
            <a:off x="2362320" y="228600"/>
            <a:ext cx="5491080" cy="4108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ometimes cutters cut themselves in patter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Unexplained wounds:  the person may have fresh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scars from cut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Indications of depression:  low mood, tearfulness, lack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of motivation, or loss of energy can be signs of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depression, which can lead to cutt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Frequent “accidents”:  someone who cuts may claim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to be clumsy, in order to explain injurie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hanges in eating habits:  the person may be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secretive about eating or have unusual weight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loss or gain, as eating disorders are often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associated with cutt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overing up:  the person would wear long sleeves or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pants even during the summer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1: Acknowledge the probl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2: Talk to someone you tru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3: Identify what causes you to cu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se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4: Recognize that cutting is an attemp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self-sooth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5: Figure out what function the cutting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s serv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6: If you cannot stop cutting alone, ge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58" name="Content Placeholder 4" descr="cutter.bmp"/>
          <p:cNvPicPr/>
          <p:nvPr/>
        </p:nvPicPr>
        <p:blipFill>
          <a:blip r:embed="rId2"/>
          <a:stretch/>
        </p:blipFill>
        <p:spPr>
          <a:xfrm>
            <a:off x="371520" y="2286000"/>
            <a:ext cx="3338640" cy="2500200"/>
          </a:xfrm>
          <a:prstGeom prst="rect">
            <a:avLst/>
          </a:prstGeom>
          <a:ln w="0">
            <a:noFill/>
          </a:ln>
        </p:spPr>
      </p:pic>
      <p:pic>
        <p:nvPicPr>
          <p:cNvPr id="359" name="Content Placeholder 5" descr="cutter.jpg"/>
          <p:cNvPicPr/>
          <p:nvPr/>
        </p:nvPicPr>
        <p:blipFill>
          <a:blip r:embed="rId3"/>
          <a:stretch/>
        </p:blipFill>
        <p:spPr>
          <a:xfrm>
            <a:off x="4525920" y="2438280"/>
            <a:ext cx="3665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54:47Z</dcterms:created>
  <dc:creator>vhs</dc:creator>
  <dc:description/>
  <dc:language>en-US</dc:language>
  <cp:lastModifiedBy>VHS</cp:lastModifiedBy>
  <dcterms:modified xsi:type="dcterms:W3CDTF">2010-11-22T20:45:29Z</dcterms:modified>
  <cp:revision>6</cp:revision>
  <dc:subject/>
  <dc:title>The Truth About Cutting</dc:title>
</cp:coreProperties>
</file>